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2991-CBC6-4C35-A700-8C09F58DA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38AA-DA07-4A70-8D6B-FBDB045D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E7B3-5BFC-418B-A55F-AA1D9D0D5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760B-71F2-42DB-8C34-AB80EF88D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0535-46E5-4479-9EAF-D1317F2DF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D951-423C-46E7-830F-8A010737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7BC6-B86F-45F8-94AC-9AB3AFEF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41E2-4B11-483F-81A6-7D6EF0A2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AFBE-F0AF-4610-B00C-8E70D338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1313-61DD-4B83-88FE-417C064A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D06A-68CF-43D5-999C-C53FF003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386B-891D-4146-B111-F07C35D9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A97B4-5183-4566-9486-961E913E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69D5-8BFD-41FB-83D2-CE09116D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4B52-CFD5-40A9-B95A-ED998BE2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91B5-9D2A-4A7C-B964-2892A8247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9F1F-8210-4A3E-985F-0892F4FF8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487D-C679-42DB-AF1D-3DB0D72A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6B9A-53BB-4189-84EA-E02ED897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6B74-4C07-4B50-877B-5AAED79D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F67F-351D-49CA-B993-A0462255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2E14-89B3-4647-A93F-8508CB12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33EB-29DB-4AAC-97AF-341662DD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42E9-9CA1-48ED-AB4C-BB800FB2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D6FC-50F1-4101-A312-4F314ED3180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9131-4C42-4158-969A-687CEC33879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Arial"/>
              </a:rPr>
              <a:t>Me llamo _______ Clase 7 IM</a:t>
            </a:r>
            <a:br>
              <a:rPr sz="4000"/>
            </a:br>
            <a:r>
              <a:rPr b="0" lang="en-US" sz="4000" spc="-1" strike="noStrike">
                <a:solidFill>
                  <a:srgbClr val="66ccff"/>
                </a:solidFill>
                <a:latin typeface="Arial"/>
              </a:rPr>
              <a:t>La fecha es el 12 de octubre del 2011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Verdana"/>
              </a:rPr>
              <a:t>Propósito # 8: </a:t>
            </a: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¿Te gusta viajar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Verdana"/>
              </a:rPr>
              <a:t>Actividad Inicial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Write a sentence using the following phrase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En carro (en coch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En tax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En el bus escol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Ir a p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ocabulario Nuev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10080" y="1676520"/>
            <a:ext cx="12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622840" y="1784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xto p. 80-8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xto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pia y respond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Historieta 1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p.8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ORKBOOK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pleta p. 35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31273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04:18:37Z</dcterms:created>
  <dc:creator>Helen Zumaeta</dc:creator>
  <dc:description/>
  <dc:language>en-US</dc:language>
  <cp:lastModifiedBy>Helen Zumaeta</cp:lastModifiedBy>
  <dcterms:modified xsi:type="dcterms:W3CDTF">2011-10-12T18:02:18Z</dcterms:modified>
  <cp:revision>6</cp:revision>
  <dc:subject/>
  <dc:title>Me llamo _______ Clase 8 IM La fecha es el 11 de octubre del 2011</dc:title>
</cp:coreProperties>
</file>